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wmf" ContentType="image/x-wmf"/>
  <Override PartName="/ppt/media/image55.png" ContentType="image/png"/>
  <Override PartName="/ppt/media/image15.png" ContentType="image/png"/>
  <Override PartName="/ppt/media/image14.png" ContentType="image/png"/>
  <Override PartName="/ppt/media/image54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5.png" ContentType="image/png"/>
  <Override PartName="/ppt/media/image46.wmf" ContentType="image/x-wmf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6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5.jpeg" ContentType="image/jpeg"/>
  <Override PartName="/ppt/media/image50.png" ContentType="image/png"/>
  <Override PartName="/ppt/media/image48.png" ContentType="image/png"/>
  <Override PartName="/ppt/media/image1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28.wmf" ContentType="image/x-wmf"/>
  <Override PartName="/ppt/media/image30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30F0D6-EA36-442B-A42B-006B5A6FE52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9573A8-93E2-4AB5-9A55-7EA3CD52689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E03B91-CD30-4066-A30D-78F0C7A999F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3 - Θέση αριθμού διαφάνειας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8EFA5D-E75C-4E03-933F-F39962000C4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3 - Θέση αριθμού διαφάνειας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E402C3-A4D1-40ED-A89D-D36BB25D7C4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487DDE-0E53-47D7-8181-8951BC84909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3 - Θέση αριθμού διαφάνειας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F02ED7-67A4-4115-AF29-B141A88EDBE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839-566E-462D-9937-89D04D52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876-CC92-41FF-9985-544A8069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651-BF40-4FAC-A9EF-675B3902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029-F706-497D-ABF0-E56F558E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6A02-7807-4B44-A9E7-77C83274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9545-420C-4500-BBD5-0A06A960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5A72-8C1A-4336-9961-5D665F97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133E-C136-4C70-9B46-9BB44981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66E0-1D74-4E24-8584-B91A3902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A80A-7BF6-4F9A-9FF9-EDA60D9C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0BC3-F08B-4026-8AA9-032C997E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C33-463C-44B3-A402-F6F200FF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C396-393C-427F-AA2E-F418642B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5E35-C423-4B78-9110-60567A20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B9C8-60D2-4FF4-BFCC-A12D9A6B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4654-4785-4EA9-B13E-C1B2CD19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7FF6-7454-4606-80C3-63FE861F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BEC8D-1A96-4959-AAA5-A306DC2F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BB26-D67C-4D8A-A4AF-A1C0185C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DC67-9B25-4A27-8878-1DF21840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F8BA-7FA0-4C8B-BF52-45C2F9D4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B0AA-0F98-4621-8E26-7F8AB864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63A-81CC-47C8-8408-C41F8A66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61DE-50E0-4C53-8282-2B920C14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D33F2-C4FD-46A7-8108-880905D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2C75-D5FC-44D1-A9C2-5E1CAAE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C473-E919-496E-9C41-D8D33B9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AED5-6E15-4C45-A077-ABD03822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769A-3541-4B23-B00B-75776D6C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A2F6-2613-4E29-A898-83CEA99C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0A24-DFEA-4010-9947-F4D32A6E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8BFA-CF20-46CD-884B-ADD23FD3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462C-3E98-43F7-9983-059106BD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73E-94D7-44E0-A1BA-D0CA65A3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D87C-AFEA-402A-AC96-44F5CFD8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7DEE9-F180-4836-B8BF-45B20485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F0EB-CFB7-4616-9071-2450D0AE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7611-C274-4889-9F88-22126DB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B11B-C307-4CD2-A79B-B7736BD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A810-6B2B-4F03-8135-74033EC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25B5B-4F60-4615-9FB0-58A164D4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C318-8916-4BEE-9E95-C603D1A9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30EF-A76F-4801-93DE-5E12C35B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87E8-574F-41D0-8F46-02413CFF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9E3-364C-40A9-8CCC-E07F049A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CABF-6D8A-4EFD-8C0A-4D3FF400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7C99-FC62-4445-B6E8-C1064976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85858-B24C-45B7-8670-656381B1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D2BA-F3E8-4E0A-8A42-050411FB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91C27-F37F-44A2-91FC-EC4FBA69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3C794-60F9-46A9-9AD1-E989ECF9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18F1E-56C8-405E-88E5-F532E20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B2A7-A80C-4B99-962C-79025E8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916A8-11B8-4745-9C28-5303D3F2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A22FF-5501-47D2-95AC-C3A09AF7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276-A913-4BA6-A31F-8E11ADDC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10896-5C08-4D2E-BC7E-16DB2245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A6B39-26E0-4934-908D-31554C4D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0E2B3-227B-40A1-A239-AB003548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F31F-A520-49E9-96F5-7017800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FFA70-8D13-4689-AA18-2E224274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67D2-1968-43BD-84C1-8F62855C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1A044-315B-44A3-8512-6D83CE9C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AA4C7-5CAA-4DB1-B46F-96B43B5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94633-BB56-4D04-9BA6-4D5262C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F7AB6-A71C-4E82-9ECC-BD02D28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224-5BBE-4F3C-9031-885CD553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41234-64F2-44F9-8374-56C8DF53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04737-A104-45B0-82FA-298C898D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F9DCC-226D-4C04-ABC9-3630BE7E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E0480-8349-4932-9B69-CB255485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9A479-C06A-4204-BF35-18016D82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2B759-D5C0-4DC5-8C82-B8A6B551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C0E25-FC85-49A7-9B45-2ACDB042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C51B-A85E-46ED-A2C8-76FCE80F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434A9-0D5E-44A5-9440-1EFDB567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6F402-F013-4D23-A81F-2DDBC8C0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030-9F42-4047-B82E-F93D1399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8A41E-087A-48F2-BFDA-4CB0700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FF15-17F9-477A-821A-BEAD22F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F547-575B-4720-B7BD-4190B69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37079-D7B1-425E-9E15-FD0A1EA2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F8E66-296C-423D-AAA5-6EEF5C88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15225-AE76-4326-861E-E1046A2E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EA48D-CB2F-4F98-B650-5498B1AB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F26E4-CA59-4BA2-B1E7-059F6607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BE387-D9D2-4A76-B894-B3237D11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3C87C-B757-40B7-A6EE-56DFA228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CB5-176C-45DB-98E4-02D55A46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CFAD-9E31-47BF-9C3A-73878802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559C1-5579-4FFE-BB99-10021B9B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CBCF-91CF-4E2D-9A66-D0576AB6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41CC9-6614-450C-8B33-322C60CC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F4860-5832-4135-BEEB-ABFFA1E9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B932D-2860-45CA-9AC6-CF522995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CBDD0-AE4E-4C33-B724-F0D1AF99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- Ελεύθερη σχεδίαση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11 - Ελεύθερη σχεδίαση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- Ορθογώνιο τρίγωνο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14 - Ευθεία γραμμή σύνδεσης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E7A7-0090-4319-A9E5-08D6BD41EE01}" type="slidenum">
              <a:rPr b="0" lang="el-G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- Ορθογώνιο τρίγωνο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15 - Ομάδα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- Ελεύθερη σχεδίαση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18 - Ελεύθερη σχεδίαση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19 - Ελεύθερη σχεδίαση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- Ελεύθερη σχεδίαση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20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3460-8EA8-4626-8EA7-5E8DC2996D7B}" type="slidenum">
              <a:rPr b="0" lang="el-G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- Ελεύθερη σχεδίαση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11 - Ελεύθερη σχεδίαση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- Ορθογώνιο τρίγωνο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14 - Ευθεία γραμμή σύνδεσης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- Διάσημα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15 - Διάσημα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A2E6-4B63-4CDA-B78C-261EB2032C9A}" type="slidenum">
              <a:rPr b="0" lang="el-G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- Ελεύθερη σχεδίαση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11 - Ελεύθερη σχεδίαση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- Ορθογώνιο τρίγωνο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14 - Ευθεία γραμμή σύνδεσης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16B1-DAD2-4324-85C5-1B86D61706CB}" type="slidenum">
              <a:rPr b="0" lang="el-G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9285-096C-439B-BD5A-8993312C3175}" type="slidenum">
              <a:rPr b="0" lang="el-G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- Ελεύθερη σχεδίαση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11 - Ελεύθερη σχεδίαση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- Ορθογώνιο τρίγωνο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14 - Ευθεία γραμμή σύνδεσης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DF7C-2317-4F71-917E-98EF60ED1AA0}" type="slidenum">
              <a:rPr b="0" lang="el-G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D9A6-0C2D-4D74-A327-BD12AF1CE74C}" type="slidenum">
              <a:rPr b="0" lang="el-G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- Ελεύθερη σχεδίαση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15 - Ελεύθερη σχεδίαση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16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- Ορθογώνιο τρίγωνο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18 - Ευθεία γραμμή σύνδεσης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- Διάσημα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20 - Διάσημα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3CE-A6F1-4C4F-B8D9-2E4F3BE9A49B}" type="slidenum">
              <a:rPr b="0" lang="el-G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emconsortium.org/" TargetMode="External"/><Relationship Id="rId2" Type="http://schemas.openxmlformats.org/officeDocument/2006/relationships/hyperlink" Target="http://www.iobe.gr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ioannides@iobe.gr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6480" y="615960"/>
            <a:ext cx="7607520" cy="11523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0" y="1125360"/>
            <a:ext cx="88930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666699"/>
                </a:solidFill>
                <a:latin typeface="Tahoma"/>
                <a:ea typeface="Tahoma"/>
              </a:rPr>
              <a:t>Η ΕΠΙΧΕΙΡΗΜΑΤΙΚΟΤΗΤΑ ΣΤΗΝ ΕΛΛΑΔ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6699"/>
                </a:solidFill>
                <a:latin typeface="Tahoma"/>
                <a:ea typeface="Tahoma"/>
              </a:rPr>
              <a:t>2011-20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 εξέλιξη των δεικτών της επιχειρηματικότητα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στη διάρκεια της κρίση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da1f28"/>
                </a:solidFill>
                <a:latin typeface="Tahoma"/>
                <a:ea typeface="Tahoma"/>
              </a:rPr>
              <a:t>Σταύρος Ιωαννίδη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99"/>
                </a:solidFill>
                <a:latin typeface="Tahoma"/>
                <a:ea typeface="Tahoma"/>
              </a:rPr>
              <a:t>Παγκόσμιο Παρατηρητήριο Επιχειρηματικότητας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  <a:ea typeface="Tahoma"/>
              </a:rPr>
              <a:t> G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99"/>
                </a:solidFill>
                <a:latin typeface="Tahoma"/>
                <a:ea typeface="Tahoma"/>
              </a:rPr>
              <a:t>Παρατηρητήριο Επιχειρηματικότητα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99"/>
                </a:solidFill>
                <a:latin typeface="Tahoma"/>
                <a:ea typeface="Tahoma"/>
              </a:rPr>
              <a:t>Ίδρυμα Οικονομικών και Βιομηχανικών Ερευνώ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Picture 4" descr="revsd_gem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189000"/>
            <a:ext cx="939960" cy="7920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7 - TextBox"/>
          <p:cNvSpPr/>
          <p:nvPr/>
        </p:nvSpPr>
        <p:spPr>
          <a:xfrm>
            <a:off x="5975280" y="6114960"/>
            <a:ext cx="25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6699"/>
                </a:solidFill>
                <a:latin typeface="Tahoma"/>
              </a:rPr>
              <a:t>Με την υποστήριξη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  <p:sp>
        <p:nvSpPr>
          <p:cNvPr id="384" name="9 - TextBox"/>
          <p:cNvSpPr/>
          <p:nvPr/>
        </p:nvSpPr>
        <p:spPr>
          <a:xfrm>
            <a:off x="125640" y="645336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1" i="1" lang="el-GR" sz="1600" spc="-1" strike="noStrike">
                <a:solidFill>
                  <a:srgbClr val="000000"/>
                </a:solidFill>
                <a:latin typeface="Tahoma"/>
              </a:rPr>
              <a:t>Φεβρουαρίου 201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4"/>
          <a:stretch/>
        </p:blipFill>
        <p:spPr>
          <a:xfrm>
            <a:off x="8101080" y="260280"/>
            <a:ext cx="79992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655120" cy="1158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"/>
          <p:cNvGraphicFramePr/>
          <p:nvPr/>
        </p:nvGraphicFramePr>
        <p:xfrm>
          <a:off x="1692360" y="1397160"/>
          <a:ext cx="5759280" cy="4840200"/>
        </p:xfrm>
        <a:graphic>
          <a:graphicData uri="http://schemas.openxmlformats.org/drawingml/2006/table">
            <a:tbl>
              <a:tblPr/>
              <a:tblGrid>
                <a:gridCol w="1441440"/>
                <a:gridCol w="898560"/>
                <a:gridCol w="1171440"/>
                <a:gridCol w="1171440"/>
                <a:gridCol w="1076400"/>
              </a:tblGrid>
              <a:tr h="552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ωτογενής τομέα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εταποιητική δραστηριότητ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πηρεσίες προς επιχειρήσει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ϊόντα / υπηρεσίες προς καταναλωτέ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21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ώρες 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ώρες 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υστραλ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έλγι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σεχ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α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Φινλανδ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αλλ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ερμα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λλάδ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ρλανδ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απω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ορέ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λλανδ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ορβηγ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ρτογαλ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ιγκαπούρ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λοβε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σπα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ουηδ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λβετ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αϊβά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ν. Αραβικά Εμιράτ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ν. Βασίλει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Π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ώρες 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.Ο. G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  <p:pic>
        <p:nvPicPr>
          <p:cNvPr id="449" name="Chart 5" descr=""/>
          <p:cNvPicPr/>
          <p:nvPr/>
        </p:nvPicPr>
        <p:blipFill>
          <a:blip r:embed="rId3"/>
          <a:stretch/>
        </p:blipFill>
        <p:spPr>
          <a:xfrm>
            <a:off x="963720" y="1620720"/>
            <a:ext cx="732132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813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2855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3"/>
          <a:stretch/>
        </p:blipFill>
        <p:spPr>
          <a:xfrm>
            <a:off x="971640" y="1413000"/>
            <a:ext cx="7200720" cy="37447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4"/>
          <p:cNvSpPr/>
          <p:nvPr/>
        </p:nvSpPr>
        <p:spPr>
          <a:xfrm>
            <a:off x="971640" y="5157360"/>
            <a:ext cx="50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Χώρες Α: χαμηλού κόστους,  Χώρες Β: βελτίωσης αποτελεσματικότητας, Χώρες Γ: καινοτομίας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8242200" cy="12747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848720" cy="4607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4" descr=""/>
          <p:cNvPicPr/>
          <p:nvPr/>
        </p:nvPicPr>
        <p:blipFill>
          <a:blip r:embed="rId1"/>
          <a:stretch/>
        </p:blipFill>
        <p:spPr>
          <a:xfrm>
            <a:off x="530280" y="1962000"/>
            <a:ext cx="8192880" cy="164628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371520" y="244440"/>
            <a:ext cx="848664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4" name=""/>
          <p:cNvGraphicFramePr/>
          <p:nvPr/>
        </p:nvGraphicFramePr>
        <p:xfrm>
          <a:off x="1692360" y="1413000"/>
          <a:ext cx="5832360" cy="4595760"/>
        </p:xfrm>
        <a:graphic>
          <a:graphicData uri="http://schemas.openxmlformats.org/drawingml/2006/table">
            <a:tbl>
              <a:tblPr/>
              <a:tblGrid>
                <a:gridCol w="1081080"/>
                <a:gridCol w="720720"/>
                <a:gridCol w="790560"/>
                <a:gridCol w="687240"/>
                <a:gridCol w="733680"/>
                <a:gridCol w="1002960"/>
                <a:gridCol w="816120"/>
              </a:tblGrid>
              <a:tr h="7380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ώρε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χειρ. Ευκαιρίες το προσεχές 6μην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νώσεις ικανότητα &amp; εμπειρία επιχειρημα/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α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Φόβος αποτυχία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χειρημα/τα ως καλή επιλογή καριέρα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οινωνική καταξίωση &amp; σεβασμός στους επιτυχημένους επιχειρη/τίε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στίαση των ΜΜΕ στην επιχειρημα/τ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ώρες 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ώρες 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υστραλ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έλγι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σεχ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α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Φινλανδ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αλλ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ερμα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λλάδ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ρλανδ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απω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ορέ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λλανδ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ορβηγ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ρτογαλ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ιγκαπούρ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λοβε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σπαν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ουηδ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λβετί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αϊβά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ν. Αρ. Εμιράτ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ν. Βασίλει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Π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ώρες 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O. G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5" name="Rectangle 5"/>
          <p:cNvSpPr/>
          <p:nvPr/>
        </p:nvSpPr>
        <p:spPr>
          <a:xfrm>
            <a:off x="1835280" y="60213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ahoma"/>
              </a:rPr>
              <a:t>% θετικών απαντήσεων στον πληθυσμό 18-64 ετών, 201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6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6714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9" name="Object 4"/>
          <p:cNvGraphicFramePr/>
          <p:nvPr/>
        </p:nvGraphicFramePr>
        <p:xfrm>
          <a:off x="1908000" y="1557360"/>
          <a:ext cx="5185080" cy="34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557360"/>
                    <a:ext cx="5185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1" name="Picture 8" descr=""/>
          <p:cNvPicPr/>
          <p:nvPr/>
        </p:nvPicPr>
        <p:blipFill>
          <a:blip r:embed="rId4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18600" cy="1158840"/>
          </a:xfrm>
          <a:prstGeom prst="rect">
            <a:avLst/>
          </a:prstGeom>
          <a:ln w="0">
            <a:noFill/>
          </a:ln>
        </p:spPr>
      </p:pic>
      <p:pic>
        <p:nvPicPr>
          <p:cNvPr id="473" name="Chart 4" descr=""/>
          <p:cNvPicPr/>
          <p:nvPr/>
        </p:nvPicPr>
        <p:blipFill>
          <a:blip r:embed="rId2"/>
          <a:stretch/>
        </p:blipFill>
        <p:spPr>
          <a:xfrm>
            <a:off x="1182600" y="1407960"/>
            <a:ext cx="6639120" cy="38293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76" name="Chart 4" descr=""/>
          <p:cNvPicPr/>
          <p:nvPr/>
        </p:nvPicPr>
        <p:blipFill>
          <a:blip r:embed="rId2"/>
          <a:stretch/>
        </p:blipFill>
        <p:spPr>
          <a:xfrm>
            <a:off x="1255680" y="1481040"/>
            <a:ext cx="6492960" cy="35355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68360" y="1413000"/>
            <a:ext cx="84247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ts val="2599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ο μοναδικό πρόγραμμα που μετρά την επιχειρηματικότητα σε διαχρονική βάση παγκοσμίως (1999-...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ts val="2599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54 χώρες το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1, πάνω από 60 το 2012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ts val="2599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 Ελλάδα συμμετέχει από το 2003 μέσω του ΙΟΒΕ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ts val="2599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Στόχοι έργου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lnSpc>
                <a:spcPts val="2599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Να μετρήσει το επίπεδο επιχειρηματικότητας σε μια χώρα και να εξηγήσει τις διαφορές που εμφανίζονται ανάμεσα στις εξεταζόμενες χώρε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lnSpc>
                <a:spcPts val="2599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lnSpc>
                <a:spcPts val="2599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Να αποκαλύψει τους παράγοντες που οδηγούν σε ικανοποιητικά επίπεδα επιχειρηματικότητα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lnSpc>
                <a:spcPts val="2599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lnSpc>
                <a:spcPts val="2599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Να προτείνει πολιτικές που μπορούν να ενισχύσουν τα επίπεδα επιχειρηματικότητας σε μια χώρα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ts val="2599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9156960" cy="908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451160"/>
          </a:xfrm>
          <a:prstGeom prst="rect">
            <a:avLst/>
          </a:prstGeom>
          <a:ln w="0">
            <a:noFill/>
          </a:ln>
        </p:spPr>
      </p:pic>
      <p:pic>
        <p:nvPicPr>
          <p:cNvPr id="479" name="Chart 4" descr=""/>
          <p:cNvPicPr/>
          <p:nvPr/>
        </p:nvPicPr>
        <p:blipFill>
          <a:blip r:embed="rId2"/>
          <a:stretch/>
        </p:blipFill>
        <p:spPr>
          <a:xfrm>
            <a:off x="1395360" y="1620720"/>
            <a:ext cx="6353280" cy="38293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4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1646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4" name=""/>
          <p:cNvGraphicFramePr/>
          <p:nvPr/>
        </p:nvGraphicFramePr>
        <p:xfrm>
          <a:off x="2195640" y="1700280"/>
          <a:ext cx="4608360" cy="2378160"/>
        </p:xfrm>
        <a:graphic>
          <a:graphicData uri="http://schemas.openxmlformats.org/drawingml/2006/table">
            <a:tbl>
              <a:tblPr/>
              <a:tblGrid>
                <a:gridCol w="1722240"/>
                <a:gridCol w="2886120"/>
              </a:tblGrid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υναικεία επιχειρηματικότητ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27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έσος όρο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5"/>
          <p:cNvSpPr/>
          <p:nvPr/>
        </p:nvSpPr>
        <p:spPr>
          <a:xfrm>
            <a:off x="2184120" y="4149720"/>
            <a:ext cx="23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ahoma"/>
              </a:rPr>
              <a:t>(% του πληθυσμού 18-64 ετώ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8" name="Chart 4" descr=""/>
          <p:cNvPicPr/>
          <p:nvPr/>
        </p:nvPicPr>
        <p:blipFill>
          <a:blip r:embed="rId2"/>
          <a:stretch/>
        </p:blipFill>
        <p:spPr>
          <a:xfrm>
            <a:off x="1109520" y="1547640"/>
            <a:ext cx="7139160" cy="34689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5832360" cy="352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777440" cy="38894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4" descr=""/>
          <p:cNvPicPr/>
          <p:nvPr/>
        </p:nvPicPr>
        <p:blipFill>
          <a:blip r:embed="rId1"/>
          <a:stretch/>
        </p:blipFill>
        <p:spPr>
          <a:xfrm>
            <a:off x="682560" y="2073240"/>
            <a:ext cx="7785000" cy="15350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369280" cy="1158840"/>
          </a:xfrm>
          <a:prstGeom prst="rect">
            <a:avLst/>
          </a:prstGeom>
          <a:ln w="0">
            <a:noFill/>
          </a:ln>
        </p:spPr>
      </p:pic>
      <p:pic>
        <p:nvPicPr>
          <p:cNvPr id="500" name="Chart 4" descr=""/>
          <p:cNvPicPr/>
          <p:nvPr/>
        </p:nvPicPr>
        <p:blipFill>
          <a:blip r:embed="rId2"/>
          <a:stretch/>
        </p:blipFill>
        <p:spPr>
          <a:xfrm>
            <a:off x="1468440" y="1603440"/>
            <a:ext cx="6059520" cy="4206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Rectangle 2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369280" cy="1158840"/>
          </a:xfrm>
          <a:prstGeom prst="rect">
            <a:avLst/>
          </a:prstGeom>
          <a:ln w="0">
            <a:noFill/>
          </a:ln>
        </p:spPr>
      </p:pic>
      <p:pic>
        <p:nvPicPr>
          <p:cNvPr id="503" name="Chart 4" descr=""/>
          <p:cNvPicPr/>
          <p:nvPr/>
        </p:nvPicPr>
        <p:blipFill>
          <a:blip r:embed="rId2"/>
          <a:stretch/>
        </p:blipFill>
        <p:spPr>
          <a:xfrm>
            <a:off x="1755720" y="1620720"/>
            <a:ext cx="5797440" cy="395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4" descr=""/>
          <p:cNvPicPr/>
          <p:nvPr/>
        </p:nvPicPr>
        <p:blipFill>
          <a:blip r:embed="rId1"/>
          <a:stretch/>
        </p:blipFill>
        <p:spPr>
          <a:xfrm>
            <a:off x="682560" y="2103480"/>
            <a:ext cx="7785000" cy="1504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 algn="just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  <a:ea typeface="Tahoma"/>
              </a:rPr>
              <a:t>Κάθε προσπάθεια για δημιουργία μιας νέας επιχείρησης ή νέας δραστηριότητας, όπως το ελεύθερο επάγγελμα, η δημιουργία ενός νέου επιχειρηματικού οργανισμού ή η επέκταση ήδη υπάρχουσας επιχείρησης, που γίνεται από έναν ιδιώτη, από ομάδες ιδιωτών ή από επιχειρήσεις που ήδη λειτουργούν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32720" cy="4464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8448480" cy="1158840"/>
          </a:xfrm>
          <a:prstGeom prst="rect">
            <a:avLst/>
          </a:prstGeom>
          <a:ln w="0">
            <a:noFill/>
          </a:ln>
        </p:spPr>
      </p:pic>
      <p:pic>
        <p:nvPicPr>
          <p:cNvPr id="511" name="Chart 4" descr=""/>
          <p:cNvPicPr/>
          <p:nvPr/>
        </p:nvPicPr>
        <p:blipFill>
          <a:blip r:embed="rId2"/>
          <a:stretch/>
        </p:blipFill>
        <p:spPr>
          <a:xfrm>
            <a:off x="963720" y="1481040"/>
            <a:ext cx="7216560" cy="36813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514" name="Chart 4" descr=""/>
          <p:cNvPicPr/>
          <p:nvPr/>
        </p:nvPicPr>
        <p:blipFill>
          <a:blip r:embed="rId2"/>
          <a:stretch/>
        </p:blipFill>
        <p:spPr>
          <a:xfrm>
            <a:off x="895320" y="1620720"/>
            <a:ext cx="7712280" cy="3902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Lucida Sans Unicode"/>
              </a:rPr>
              <a:t>Πληροφορίες για το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EM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gemconsortium.or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Lucida Sans Unicode"/>
              </a:rPr>
              <a:t>Η έκθεση του ΙΟΒΕ είναι προσβάσιμη στο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www.iobe.g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18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25056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Lucida Sans Unicode"/>
              </a:rPr>
              <a:t>Ευχαριστώ για την προσοχή σα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Lucida Sans Unicode"/>
              </a:rPr>
              <a:t>Σταύρος Ιωαννίδη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ioannides@iobe.g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63680" y="36360"/>
            <a:ext cx="8242200" cy="116388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38"/>
          <p:cNvGrpSpPr/>
          <p:nvPr/>
        </p:nvGrpSpPr>
        <p:grpSpPr>
          <a:xfrm>
            <a:off x="900000" y="1341360"/>
            <a:ext cx="7561440" cy="3095640"/>
            <a:chOff x="900000" y="1341360"/>
            <a:chExt cx="7561440" cy="3095640"/>
          </a:xfrm>
        </p:grpSpPr>
        <p:sp>
          <p:nvSpPr>
            <p:cNvPr id="394" name="AutoShape 8"/>
            <p:cNvSpPr/>
            <p:nvPr/>
          </p:nvSpPr>
          <p:spPr>
            <a:xfrm>
              <a:off x="900000" y="1341360"/>
              <a:ext cx="7561440" cy="3095640"/>
            </a:xfrm>
            <a:prstGeom prst="rect">
              <a:avLst/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9"/>
            <p:cNvSpPr/>
            <p:nvPr/>
          </p:nvSpPr>
          <p:spPr>
            <a:xfrm>
              <a:off x="2876400" y="1990080"/>
              <a:ext cx="3245040" cy="1583280"/>
            </a:xfrm>
            <a:prstGeom prst="rect">
              <a:avLst/>
            </a:prstGeom>
            <a:solidFill>
              <a:srgbClr val="e0e0e0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6" name="Group 10"/>
            <p:cNvGrpSpPr/>
            <p:nvPr/>
          </p:nvGrpSpPr>
          <p:grpSpPr>
            <a:xfrm>
              <a:off x="1331640" y="1485360"/>
              <a:ext cx="5224320" cy="1425960"/>
              <a:chOff x="1331640" y="1485360"/>
              <a:chExt cx="5224320" cy="1425960"/>
            </a:xfrm>
          </p:grpSpPr>
          <p:sp>
            <p:nvSpPr>
              <p:cNvPr id="397" name="Rectangle 11"/>
              <p:cNvSpPr/>
              <p:nvPr/>
            </p:nvSpPr>
            <p:spPr>
              <a:xfrm>
                <a:off x="2743560" y="1485360"/>
                <a:ext cx="38124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400" spc="-1" strike="noStrike">
                    <a:solidFill>
                      <a:srgbClr val="000000"/>
                    </a:solidFill>
                    <a:latin typeface="Tahoma"/>
                  </a:rPr>
                  <a:t>Συνολική επιχειρηματικότητα αρχικών σταδίων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TEA index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Rectangle 12"/>
              <p:cNvSpPr/>
              <p:nvPr/>
            </p:nvSpPr>
            <p:spPr>
              <a:xfrm>
                <a:off x="1331640" y="1998000"/>
                <a:ext cx="1130400" cy="913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99" name="Rectangle 13"/>
            <p:cNvSpPr/>
            <p:nvPr/>
          </p:nvSpPr>
          <p:spPr>
            <a:xfrm>
              <a:off x="1476360" y="2061720"/>
              <a:ext cx="699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Δυνητικός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4"/>
            <p:cNvSpPr/>
            <p:nvPr/>
          </p:nvSpPr>
          <p:spPr>
            <a:xfrm>
              <a:off x="1403280" y="2277360"/>
              <a:ext cx="1011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επιχειρηματίας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1466640" y="2539080"/>
              <a:ext cx="846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Γνώσεις &amp;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ικανότητε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3060720" y="2061720"/>
              <a:ext cx="1130040" cy="122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7"/>
            <p:cNvSpPr/>
            <p:nvPr/>
          </p:nvSpPr>
          <p:spPr>
            <a:xfrm>
              <a:off x="3276360" y="2061720"/>
              <a:ext cx="68112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Επίδοξο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8"/>
            <p:cNvSpPr/>
            <p:nvPr/>
          </p:nvSpPr>
          <p:spPr>
            <a:xfrm>
              <a:off x="3132000" y="2277360"/>
              <a:ext cx="1036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επιχειρηματία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9"/>
            <p:cNvSpPr/>
            <p:nvPr/>
          </p:nvSpPr>
          <p:spPr>
            <a:xfrm>
              <a:off x="3132000" y="2637720"/>
              <a:ext cx="98892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Βρίσκεται στην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έναρξη του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εγχειρήματος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20"/>
            <p:cNvSpPr/>
            <p:nvPr/>
          </p:nvSpPr>
          <p:spPr>
            <a:xfrm>
              <a:off x="4860720" y="2132640"/>
              <a:ext cx="1130400" cy="1050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7" name="Group 21"/>
            <p:cNvGrpSpPr/>
            <p:nvPr/>
          </p:nvGrpSpPr>
          <p:grpSpPr>
            <a:xfrm>
              <a:off x="4860720" y="2132640"/>
              <a:ext cx="2824200" cy="1055160"/>
              <a:chOff x="4860720" y="2132640"/>
              <a:chExt cx="2824200" cy="1055160"/>
            </a:xfrm>
          </p:grpSpPr>
          <p:sp>
            <p:nvSpPr>
              <p:cNvPr id="408" name="Rectangle 22"/>
              <p:cNvSpPr/>
              <p:nvPr/>
            </p:nvSpPr>
            <p:spPr>
              <a:xfrm>
                <a:off x="4860720" y="2161080"/>
                <a:ext cx="1051920" cy="10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Νέος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επιχειρηματίας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(επιχείρηση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 3,5 ετών)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Rectangle 23"/>
              <p:cNvSpPr/>
              <p:nvPr/>
            </p:nvSpPr>
            <p:spPr>
              <a:xfrm>
                <a:off x="6521400" y="2132640"/>
                <a:ext cx="1163520" cy="1055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0" name="Rectangle 24"/>
            <p:cNvSpPr/>
            <p:nvPr/>
          </p:nvSpPr>
          <p:spPr>
            <a:xfrm>
              <a:off x="6588000" y="2132640"/>
              <a:ext cx="1039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Καθιερωμένο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επιχειρηματία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25"/>
            <p:cNvSpPr/>
            <p:nvPr/>
          </p:nvSpPr>
          <p:spPr>
            <a:xfrm>
              <a:off x="6546600" y="2539080"/>
              <a:ext cx="987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(επιχείρηση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gt; 3,5 ετών)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Line 26"/>
            <p:cNvSpPr/>
            <p:nvPr/>
          </p:nvSpPr>
          <p:spPr>
            <a:xfrm>
              <a:off x="2496960" y="2451960"/>
              <a:ext cx="50004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Freeform 27"/>
            <p:cNvSpPr/>
            <p:nvPr/>
          </p:nvSpPr>
          <p:spPr>
            <a:xfrm>
              <a:off x="2997000" y="2386800"/>
              <a:ext cx="112680" cy="1375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44" h="144">
                  <a:moveTo>
                    <a:pt x="144" y="72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44" y="72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Line 28"/>
            <p:cNvSpPr/>
            <p:nvPr/>
          </p:nvSpPr>
          <p:spPr>
            <a:xfrm>
              <a:off x="4240080" y="2456640"/>
              <a:ext cx="466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Freeform 29"/>
            <p:cNvSpPr/>
            <p:nvPr/>
          </p:nvSpPr>
          <p:spPr>
            <a:xfrm>
              <a:off x="4707000" y="2386800"/>
              <a:ext cx="112680" cy="1375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44" h="144">
                  <a:moveTo>
                    <a:pt x="144" y="72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44" y="72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Line 30"/>
            <p:cNvSpPr/>
            <p:nvPr/>
          </p:nvSpPr>
          <p:spPr>
            <a:xfrm flipV="1">
              <a:off x="5949720" y="2451960"/>
              <a:ext cx="45108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Freeform 31"/>
            <p:cNvSpPr/>
            <p:nvPr/>
          </p:nvSpPr>
          <p:spPr>
            <a:xfrm>
              <a:off x="6400800" y="2382120"/>
              <a:ext cx="112680" cy="1375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44" h="145">
                  <a:moveTo>
                    <a:pt x="144" y="73"/>
                  </a:moveTo>
                  <a:lnTo>
                    <a:pt x="0" y="0"/>
                  </a:lnTo>
                  <a:lnTo>
                    <a:pt x="0" y="145"/>
                  </a:lnTo>
                  <a:lnTo>
                    <a:pt x="144" y="73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32"/>
            <p:cNvSpPr/>
            <p:nvPr/>
          </p:nvSpPr>
          <p:spPr>
            <a:xfrm>
              <a:off x="6249960" y="2044080"/>
              <a:ext cx="69840" cy="1529640"/>
            </a:xfrm>
            <a:prstGeom prst="rect">
              <a:avLst/>
            </a:prstGeom>
            <a:solidFill>
              <a:srgbClr val="202020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33"/>
            <p:cNvSpPr/>
            <p:nvPr/>
          </p:nvSpPr>
          <p:spPr>
            <a:xfrm>
              <a:off x="4500360" y="2061720"/>
              <a:ext cx="71640" cy="1512000"/>
            </a:xfrm>
            <a:prstGeom prst="rect">
              <a:avLst/>
            </a:prstGeom>
            <a:solidFill>
              <a:srgbClr val="202020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34"/>
            <p:cNvSpPr/>
            <p:nvPr/>
          </p:nvSpPr>
          <p:spPr>
            <a:xfrm>
              <a:off x="2700360" y="2014200"/>
              <a:ext cx="71280" cy="1559160"/>
            </a:xfrm>
            <a:prstGeom prst="rect">
              <a:avLst/>
            </a:prstGeom>
            <a:solidFill>
              <a:srgbClr val="202020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35"/>
            <p:cNvSpPr/>
            <p:nvPr/>
          </p:nvSpPr>
          <p:spPr>
            <a:xfrm>
              <a:off x="2195280" y="3645360"/>
              <a:ext cx="12686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Tahoma"/>
                </a:rPr>
                <a:t>Σύλληψη ιδέας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36"/>
            <p:cNvSpPr/>
            <p:nvPr/>
          </p:nvSpPr>
          <p:spPr>
            <a:xfrm>
              <a:off x="3995640" y="3716280"/>
              <a:ext cx="11304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Tahoma"/>
                </a:rPr>
                <a:t>Δημιουργία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Tahoma"/>
                </a:rPr>
                <a:t>επιχείρησης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37"/>
            <p:cNvSpPr/>
            <p:nvPr/>
          </p:nvSpPr>
          <p:spPr>
            <a:xfrm>
              <a:off x="6011640" y="3645360"/>
              <a:ext cx="6289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Tahoma"/>
                </a:rPr>
                <a:t>Επιβίωση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" name="Text Box 39"/>
          <p:cNvSpPr/>
          <p:nvPr/>
        </p:nvSpPr>
        <p:spPr>
          <a:xfrm>
            <a:off x="539640" y="4581360"/>
            <a:ext cx="8425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Ευρύ φάσμα «επιχειρηματικότητας»: Η επιχειρηματικότητα ξεκινά πολύ πριν ένα εγχείρημα γίνει λειτουργικ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Μονάδα ανάλυσης: ο επιχειρηματία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5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4" descr=""/>
          <p:cNvPicPr/>
          <p:nvPr/>
        </p:nvPicPr>
        <p:blipFill>
          <a:blip r:embed="rId1"/>
          <a:stretch/>
        </p:blipFill>
        <p:spPr>
          <a:xfrm>
            <a:off x="682560" y="2073240"/>
            <a:ext cx="7785000" cy="15350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559640" cy="3959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31" name="Rectangle 4"/>
          <p:cNvSpPr/>
          <p:nvPr/>
        </p:nvSpPr>
        <p:spPr>
          <a:xfrm>
            <a:off x="900000" y="5589360"/>
            <a:ext cx="50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Χώρες Α: χαμηλού κόστους,  Χώρες Β: βελτίωσης αποτελεσματικότητας, Χώρες Γ: καινοτομίας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2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78920" cy="123192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67" descr=""/>
          <p:cNvPicPr/>
          <p:nvPr/>
        </p:nvPicPr>
        <p:blipFill>
          <a:blip r:embed="rId2"/>
          <a:stretch/>
        </p:blipFill>
        <p:spPr>
          <a:xfrm>
            <a:off x="1065240" y="1506600"/>
            <a:ext cx="7302600" cy="3486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654"/>
          <p:cNvSpPr/>
          <p:nvPr/>
        </p:nvSpPr>
        <p:spPr>
          <a:xfrm>
            <a:off x="1294920" y="160200"/>
            <a:ext cx="700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64646"/>
                </a:solidFill>
                <a:latin typeface="Lucida Sans Unicode"/>
              </a:rPr>
              <a:t>Βασικοί δείκτες επιχειρηματικότητα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64646"/>
                </a:solidFill>
                <a:latin typeface="Lucida Sans Unicode"/>
              </a:rPr>
              <a:t>Ελλάδα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(2007-</a:t>
            </a:r>
            <a:r>
              <a:rPr b="1" lang="el-GR" sz="2800" spc="-1" strike="noStrike">
                <a:solidFill>
                  <a:srgbClr val="464646"/>
                </a:solidFill>
                <a:latin typeface="Lucida Sans Unicode"/>
              </a:rPr>
              <a:t>201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68360" y="1844640"/>
          <a:ext cx="8064360" cy="2954520"/>
        </p:xfrm>
        <a:graphic>
          <a:graphicData uri="http://schemas.openxmlformats.org/drawingml/2006/table">
            <a:tbl>
              <a:tblPr/>
              <a:tblGrid>
                <a:gridCol w="976320"/>
                <a:gridCol w="1262160"/>
                <a:gridCol w="1390320"/>
                <a:gridCol w="1363680"/>
                <a:gridCol w="1641600"/>
                <a:gridCol w="1430280"/>
              </a:tblGrid>
              <a:tr h="79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ίδοξη επι/κότητ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έ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/κότητ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/κότητ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ρχικών σταδίω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θιερωμένη επι/κότητ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ικ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πι/κότητ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.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38" name="Picture 8" descr=""/>
          <p:cNvPicPr/>
          <p:nvPr/>
        </p:nvPicPr>
        <p:blipFill>
          <a:blip r:embed="rId1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4"/>
          <p:cNvSpPr/>
          <p:nvPr/>
        </p:nvSpPr>
        <p:spPr>
          <a:xfrm>
            <a:off x="468360" y="4869000"/>
            <a:ext cx="66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464646"/>
                </a:solidFill>
                <a:latin typeface="Lucida Sans Unicode"/>
                <a:ea typeface="Lucida Sans Unicode"/>
              </a:rPr>
              <a:t>(% πληθυσμού ηλικίας 18-64 ετώ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1085760" cy="63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684360" y="1773360"/>
          <a:ext cx="7775280" cy="2808000"/>
        </p:xfrm>
        <a:graphic>
          <a:graphicData uri="http://schemas.openxmlformats.org/drawingml/2006/table">
            <a:tbl>
              <a:tblPr/>
              <a:tblGrid>
                <a:gridCol w="1131840"/>
                <a:gridCol w="1284120"/>
                <a:gridCol w="1400400"/>
                <a:gridCol w="1079280"/>
                <a:gridCol w="1224000"/>
                <a:gridCol w="1008000"/>
                <a:gridCol w="647640"/>
              </a:tblGrid>
              <a:tr h="3427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όγοι αποχώρησης από επιχείρηση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 rowSpan="2"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του συνολικού πληθυσμο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64 ετώ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η κερδοφόρα επιχείρησ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βλήματα χρημα/σ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ταξιο-δότησ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οιποί λόγο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ακοπή λειτουργί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ναστολή επιχειρηματικής δραστηριότητ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λλάδ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67320" rIns="67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ώρες 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67320" rIns="67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.Ο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4"/>
          <p:cNvSpPr/>
          <p:nvPr/>
        </p:nvSpPr>
        <p:spPr>
          <a:xfrm>
            <a:off x="684360" y="4652640"/>
            <a:ext cx="50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Χώρες Α: χαμηλού κόστους,  Χώρες Β: βελτίωσης αποτελεσματικότητας, Χώρες Γ: καινοτομίας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3:17:27Z</dcterms:created>
  <dc:creator>User</dc:creator>
  <dc:description/>
  <dc:language>en-US</dc:language>
  <cp:lastModifiedBy>valavanioti</cp:lastModifiedBy>
  <dcterms:modified xsi:type="dcterms:W3CDTF">2013-02-04T13:35:05Z</dcterms:modified>
  <cp:revision>316</cp:revision>
  <dc:subject/>
  <dc:title> </dc:title>
</cp:coreProperties>
</file>